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8D3-9249-4346-ADF4-464C9F0B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7D5-1BDA-438E-ABA1-E9C3C70B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07B0-4707-4CE9-9D5F-A168624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1242B-ECBB-4989-B692-B3979EFA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A2D4-73C8-4E8D-AF18-ED216CF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BDFE-8843-4ADF-A69F-6C31837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C857E-2532-411E-B68D-2BA3BAB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9A8F-FA2E-43C3-9ADD-745CB06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74CD4-A50F-4E27-8584-605998B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9E34E-A085-4C0A-B699-8FAE7649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E7CFF-A727-4090-8DA6-10BB57A2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BED9E-C5FC-4D45-89BB-BD8520B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634-D704-46E9-AA07-5CC0C782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3E9E-43FC-484A-9576-2450A58F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8A15D-379C-4340-84C2-BD809D2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43CBA-3594-420A-9681-D43D63D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2727-F447-415D-ABB6-C067327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F6F73-8C01-4980-BD2F-E7F90F0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2D4C-B44A-470B-A3D6-CF02070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E912B-D991-4BCC-BCD5-17582D9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1412E-91D4-4DD2-853F-B5B52EDC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B754-951E-4640-9DB8-43E0BB7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6C582-D24D-4273-9D12-06BFD20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018-9230-45F8-A354-31E2297A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7A76F-588E-4AF0-A9CD-52083E85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5A83-9D50-46F8-994C-F2E7B94A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32C05-B81D-46A5-BACA-827D4F57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49C5-0CEE-484B-BA19-CF72BEB0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C7249-44CE-4B09-A117-A650129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6950-2215-4835-A1B0-B4C90314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EB34-B54B-4FF1-BD21-9BED8286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6181-F90D-4D6B-ADCB-388501E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44624-DED9-4C48-85B2-2FBB979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C8805-7569-438D-AA79-A0177E2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4E9-225C-4744-B54D-10552E7E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09BF8-C8CD-4DF6-AE92-3A14440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4E9FD-EBF0-42A3-9429-077E749A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2CE44-3F31-447B-B178-3B41DC17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E9D0C-C03F-4943-9305-2685DACA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601E0-D65F-4ABB-B289-8DF71B3D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8245E-D5B2-46E0-BF97-8B796EC4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68FBA-4F30-46F6-B531-FB0BECF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7226-073E-4999-B24D-5B981C7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864B1-175C-4FDA-97DF-433A65A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F1B02-20D8-46C8-A7DD-D522266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1668-66B5-4CCE-BD3D-852447E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A9CD-75DF-4423-947B-1742C3B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63633-8649-45EC-869E-5A525AC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8B4AF-64C4-4F44-9461-E016638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DC520-EB3A-4056-A7FF-1A40D399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C5814-D049-4BCF-825A-4FD6790D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CBBF5-31AD-44C7-9BD8-B8B7DA2A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5CFD9-BAB4-42F1-A688-01A5ABE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4BED9-D4AA-4FC3-88EE-5053BFB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E3440-644E-4602-A06F-7487AE4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F6BA5-98E8-46CF-B07D-73C057AF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A187-0CE0-4643-BE43-7206AB33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A1E65-61BC-433E-9216-6F051D03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3B722-D5E4-4369-8E08-47AEFF8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60272-8437-4E00-BBE0-64F2FC7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69005-D37C-43F0-9943-FF93B28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355A1-189B-49C3-9EC5-7916482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BD54C-E750-4142-BC5D-3B7F9DEC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312ED-BFBF-484E-85D0-DD3DC910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97D97-2C74-4BE5-9C2D-6038A78C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E3C2B-4310-4AC2-8420-8527B06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4718F-AD70-4497-A5B6-162AF83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A1C-7A7F-4D15-A5E2-917C457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77D8B-9CD4-4527-A4E0-C22EC08F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99283-2161-441F-A2A6-8C402CA3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F1D7B-974B-4518-95EE-AAA35EB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4B300-586D-486E-BE5E-0EF1E76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1E422-A4E1-42D9-933E-21DFC9C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D4E1B-C994-4CBA-A43D-BB3819B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FE76F-8D54-4FA5-953A-B7AE03B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695FA-FFE1-4D76-83A3-12FCF0F2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1EA83-BA3F-46C4-9A23-AFCD83E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80964-374F-4D14-8CA9-FF2CEC45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67E-69D3-42FE-8D1A-305C1A4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FD0B8-7B40-47E7-A6EE-B9F0D37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78118-A86B-4A5E-9791-F115DC8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6A4E2-4038-4338-86B6-CAD3FF5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6AB77-13B7-43BF-B475-F70752F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ABF0C-3732-49F4-AA80-706EAF78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1CA86-E076-45D7-BC24-3ECBB19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71479-3ED6-475A-81BD-BB62134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D9953-CE81-4386-B553-FC03708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ED5FE-6C1E-4156-8632-F4FFC50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5C3EC-81F8-475A-B986-A4592AB4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A9F-C244-4FA1-A18C-0C11C40A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C140B-AB5A-410A-9638-1A3341CD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9764B-D934-4DBA-B443-E0A54142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0DCB4-8D6D-41BD-8518-EEC9703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F99E6-4817-4DBD-8E0B-03BDAB0E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7680F-9C42-439A-BAE9-D63742A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E933C-1D42-49A9-9EA7-8BF24FE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7E245-1A11-4BB2-99AE-1795225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5CC05-9734-42ED-8D9C-E81BD516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E683A-880E-4057-82C8-C3C37A4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F8EF4-71ED-4367-A2DA-4E8FE2A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88E9-4766-4310-B08C-CE29AF6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B57DC-C79D-4053-A108-94EED39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26A97-127D-4322-B2CC-187DA36F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2BACA-B6BD-41FE-8D61-ECDF010C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0F03F-6E14-4DCA-87C1-8A3742BF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EC864-51C9-429B-8C40-D4D5358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D3DB2-AAF6-40BB-9F0E-88A9EE36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3BC24-73A6-46D3-A467-D7875434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F0764-DA93-4BA9-8133-33EC885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41D19-4B61-4F05-BEAD-66134EB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9C15A-5138-4847-9755-6441F77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B72-BDDC-4409-BFF2-F5463A2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7CBF-4692-44CF-B682-4A21BBC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D2BC4-2CAC-463A-883B-F8DD2B0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0C5F0-3E3D-47D8-8FFC-B4AED54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90D3A-9E74-450B-9CAF-3F03F24E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5E33C-F16A-4959-80E6-7E7B09D5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62470-9DA1-4836-A325-16F0F02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51A20-5FFB-4D8F-8195-DCB037CB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E3E4A-0D22-414B-AE12-F2E79A1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57C0D-EAF7-4ADC-B446-9240A78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E0962-8C99-4940-BCB0-33CE613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515A7-416C-43D2-9FD0-1D036EA7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B0B2-D6AF-4057-922F-BFE629F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429D0-6C4E-4CAB-A4BA-F707E9D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257D5-4952-46C9-B024-1D300FC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43236-2457-490A-B712-4F6E47C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5D600-6648-4B86-8565-1CA31A8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CF6B4-2EF9-4FF3-BAF0-F578FF0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9C561-AEBC-4E25-A90F-C7521CD0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B9AC6-6EE6-45E1-9FE2-A99F442F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DCB60-6B08-4B88-AB77-B12DF922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AACCF-DC8B-40AE-BD6C-3EBB37D9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A19D0-4300-46ED-9FF8-075B6BF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99D-4B2A-4D33-ABBB-E9BE7E75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03AAF-61DD-42E7-A982-11E8EF3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3332B-5765-45CE-A3DB-940BCD0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D5589-A422-46DF-BCE1-044EE47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A4602-84F1-432A-BE55-56FC19E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24D1D-6C2F-4BE8-8F7D-06FF97C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AF23C-B241-452A-BC6A-FD05617E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2E0E7-616C-403B-AE80-DCC14F7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AD76D-A13E-40F5-B526-570D6DFD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2ECCD-46ED-453F-9DA6-5C1DE598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9F1B8-E931-4189-8225-873ED042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FD16-FB18-4769-B880-AB8CEE01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BB891-3716-49E1-821B-7E73EFC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C2FA7-2B31-4BA0-9494-5B8B4F9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BA6E5-3A30-4D34-90A7-C44DF7A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7B049-9A91-4709-9391-10C107A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D6EE9-D7AD-49DC-BCD5-72112542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9F19F-C9FD-4DF3-B748-54E5E17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54C5B-A3C4-4AD0-971E-45F1953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ED4C1-C352-4EC0-89EE-AF0B3E9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48556-FE03-4FAC-81E5-D3F3FC92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E0B9E-F10B-494E-B6F8-67B5C2D1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C217-908D-4394-840A-5D180EDE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5FF08-1363-48F9-9CB5-FD870BF4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3D725-9169-40A1-A3AC-0F241434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F81EC-7939-4A9D-A559-9C2ADF1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0323D-564E-4899-9CBB-E7D2522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A6596-59D1-419A-A270-655899A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CE8EB-C5AC-433B-912B-779D82FF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1991C-5AF9-4804-AD81-11CC562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BC746-289E-42EF-9106-EA2A1B1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B4FEC-729A-411C-BC61-C4689A5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C0F51-CB9F-40E3-82A2-3E52EFC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B131-53E5-4BB1-B1D8-398BD98A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61A2B-12D1-4BDB-84E8-E6D1B3B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D174A-E7D3-4C95-B0A6-BE13A7AE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E531A-CDBB-4088-9C70-D506E359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DC5E-E40B-4268-BAC6-3D83E04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4E81-8C78-47D5-82B6-BB7D130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4DCF-8CBA-4534-9A37-1AE35DD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D436-CB9B-43B2-8FED-EE70BE8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89E-BC4E-4139-9E13-B9332AA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DB2F-C3B7-4F99-8D1F-B71FCE3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8023-33DF-4384-BB71-3ABE582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890E-DC56-409E-94E9-5F90957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A51A-73F2-46FC-8C37-4BFF227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FC97-C56C-45D1-9520-1C303CC6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3462-470C-4D59-954E-1ACF18B1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FFCC-FE04-4511-8F5D-E1E2AA2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1F3E-540E-45D1-8C78-AEC064AA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9AFD-6935-4087-AC91-ED0A6FA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C1F3-4ECF-495E-94B8-DB8730A8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F23-0499-49BE-BBFA-1D45C9D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0F02-8E22-44CF-A2A6-493A2D3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4F64-1896-4A94-9753-F722FAE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935B-CCF3-4FE8-BBCE-2F57B1C8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56AE-7B88-4F4C-8849-6DB515F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A91F-8B66-406B-A21E-A31899C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F4B2-1AE6-4A51-B322-0D76E1DA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C259-CF13-421A-9662-DC4F48E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5CB5-2C92-4833-A8DF-9F60329D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342B-CF91-4AF0-BE25-42007B11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66C0F-B56A-49A7-A26D-08284937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021-AD0C-44E3-BD7F-21D4AEA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28E9-5250-47EA-8FE8-13FD5AA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69F50-D006-4D3E-9EF5-8A5B205D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68D1-9103-4587-8EFB-1DD86FF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6F38-A403-400E-8395-997EDE86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A396-A094-4823-A02C-ADE48D8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7914-1C06-4BE6-97F7-A10607FB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08BD-1030-4308-A47A-8351113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AB1D-076D-4E98-A4C3-819F0F4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D4E4-9329-433E-A5EA-8EACEC9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D5BC-6657-4AA5-8A53-E9C40A17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9FC-C18E-480D-98DA-4D50BEC2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DEB5-3A2E-4E40-941A-364BA584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DE59-81C7-47BC-B19F-30336B1E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0FC5-CB36-403B-9A06-3FE1437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FEEA3-5C47-4F48-83F4-2CF21DA1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E557-C916-446D-AD4F-51294C2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86CD-A9B5-4CD5-A8FE-A8A57891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DABA-AB90-446C-9CD8-33BFFAE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20D5-CCCD-4B94-A2AC-8810BB1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5733-B8BF-45A5-B434-1E70EBC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7F75-7D05-4A4B-BCBF-D2A7EE5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E3B-7517-49D3-AE08-512F05E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E5687-E51D-4521-9F74-1D2AEAC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0D7D-E576-4E88-A803-6CA8A1F8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063C-15FD-4CE3-BA21-A6F205B3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74C2-80D7-4962-A290-005604B4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9A4C-5FDF-4F8F-B34E-D31BDF7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429D8-171A-484B-8801-0F7817F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C691-B934-426C-B5CF-8C0FA26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897A-DA9C-479E-9F26-3250EA27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1CB0F-7050-4CEE-BE47-7F8AB10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841E-4E1E-4C6B-9F90-0160E79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D10-8F3D-4D60-A032-DDEB975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584D-7BDD-4E4C-AE95-1502231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C495-8C0D-43D1-9A0F-58D01A6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723D2-2C4D-4CBC-BB6E-658B44D1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B4EC-60E3-4C03-A768-D273B8B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5034-3876-4C5D-92C1-95D6225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EFEB-B402-475F-83CF-A02EDD25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FE6B-2C2A-432B-BB2C-BA4A119B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D362-4F25-44FA-93D0-9DB247D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B9B7-47BE-4077-8A79-C124A98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9946-76D6-4CD3-9173-C02D946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703-F3F8-4B0A-BB35-F2387531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101F-BE8E-497B-A1D1-25065F71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BAB58-0F0B-4948-A0F9-EC21C8A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948FB-5B9F-4E25-BE84-AD30375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5C041-BBBB-4157-A16A-B8E309C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DD84-892F-4BD9-B896-FD3AF66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157A2-56E4-4155-B789-681BFCE1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06EDB-B9BD-42C4-B297-9E1C8B45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A825A-4EF0-4CB7-AC7D-6276AAE2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03319-ADB3-43EA-B8F2-EEB2AFE4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FBE9-1C6E-4AFB-929C-0826AD96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EF52-7E29-4B9F-AA7E-5D2F43040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BD8A-87D0-4536-BC5F-04690A8B6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3CC-DBBA-4ACE-BBDE-24B1589A1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B0D8-40E0-430D-829C-FD1B3993E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8B58-B0BA-4243-A909-F7718F671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3CF5-B223-445E-ADED-91193BF35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F7C-4084-4612-B752-961BAED21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949-494B-4C89-B65A-A8D4CE62FC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7F8-03BE-462C-BED8-A0AF1C1D1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DE3-EC49-4C36-8817-03B0AF3D0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F44-F3C0-444C-8748-A81A48676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63D-EB48-4D3D-8F9C-AC0420F69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701-58EF-4BB2-8DF1-F8B4BFF92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250-72DF-4AF2-A95F-B26C9983A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A27-55AE-45BE-B3FD-597C0624D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459E-148F-4484-89D4-74402CA98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7DF-F85E-48D9-84B3-DF97F57CA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F5E-10E7-443B-87C5-77547BCFC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60A-819A-481A-9FF9-0B1E1D064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395-5F1B-4E51-AC15-1CD9560FB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C5A4-4CF4-4933-9CC3-969FB30F2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85A-21BF-40CD-8478-4AB4689CB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F3E-9426-45A3-ADB2-5FF4B40B6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2EC9-838C-455B-A854-3D0DB08B6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36A-7745-4EE0-A5E4-3FEAAF584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14A8-4349-4354-BE33-D41028D40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C69-7CCE-4F31-BDB7-FB0655627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E57-6C35-48E8-83A1-B6BEBD02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8EB-6FB6-4B68-9631-152F56815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49BC-A632-440B-953E-BE8FFE01CC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6D3-871A-482A-A748-CE0CCB050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34DA-B4ED-45BE-AB01-FB573ADC3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5F05-903D-4C4E-A702-8574A31E6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7B4-CF4E-4D18-95ED-2CAE760E8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CCD-2D38-4FD4-B2F1-4DE8543E74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4CE5-C497-4343-BFF4-F6B1466F0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2DB-D96B-4786-B325-3F1C046CD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E41B-4B19-4175-8D8A-2F160C847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1D2-E0E2-49F6-8BA1-8F01E5F7D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71F-CED8-4C1F-88B7-853F6DA70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76600" y="3143160"/>
            <a:ext cx="3790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52560" y="938160"/>
            <a:ext cx="9037440" cy="4981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332000" y="267984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203640" y="266544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940360" y="2665440"/>
            <a:ext cx="7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352000" y="269388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58840" y="3156120"/>
            <a:ext cx="7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3924360" y="3170160"/>
            <a:ext cx="79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6300720" y="3170160"/>
            <a:ext cx="7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8280360" y="3170160"/>
            <a:ext cx="79236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403280" y="3659040"/>
            <a:ext cx="79236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3708360" y="3659040"/>
            <a:ext cx="1008000" cy="38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6012000" y="3659040"/>
            <a:ext cx="1008000" cy="384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826920" y="54021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684360" y="1509840"/>
            <a:ext cx="7235640" cy="35719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490760" y="29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49076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476360" y="40194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547640" y="45226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109440" y="1562040"/>
            <a:ext cx="8923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9:2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